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5871-ACA5-4519-A9E6-5CD932F12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85F9-8F34-4875-8610-0DC944A2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F18F-85CC-4D74-AFC0-D6B788AD3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ABD7-4545-4012-B6B3-76D04FD26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A4AF-FA0C-40E0-BAAE-60E71B4C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799A-99FE-473C-99BA-B3E53823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C8AF-50EE-4E05-AE03-0FD13CDB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F91B-B97E-4AD0-ACAB-C2E3E88B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CE24-DDF0-4B0F-B3BE-3A02E206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FA66-B208-4117-8BBA-3B5626EF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DD48-CA09-4594-A6D5-20D4DEE2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8543-C7E9-4627-938E-5DA40BF8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18BB-A12F-4B5F-8D6F-DE9D9C59F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rded Dragon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Mad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topic is bearded Dragon’s.beardies are commen pets and are very doc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105520" y="17524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About Bearded liz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rdies originoly come from Autrail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very cute,but when there mad they can be sc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48320" y="144792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105520" y="1981080"/>
            <a:ext cx="36576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Bearded Dragons 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rded dragons eat vegies such as kale, squash,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lso eat bugs (EW!!) such as crickets, wax worms, super worms,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402160" y="1828800"/>
            <a:ext cx="26751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5:22:58Z</dcterms:created>
  <dc:creator>Yellow Springs Exempted Village School District</dc:creator>
  <dc:description/>
  <dc:language>en-US</dc:language>
  <cp:lastModifiedBy>Yellow Springs Exempted Village School District</cp:lastModifiedBy>
  <dcterms:modified xsi:type="dcterms:W3CDTF">2011-11-17T15:35:37Z</dcterms:modified>
  <cp:revision>13</cp:revision>
  <dc:subject/>
  <dc:title>Bearded Dragon’s</dc:title>
</cp:coreProperties>
</file>